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7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3.jpeg" ContentType="image/jpeg"/>
  <Override PartName="/ppt/media/image1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2E67-B1A6-43BB-9BFC-57702A2F9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C7D2-C17B-4C71-96F6-8E2855493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D62F-D542-4C5F-806B-5981A58FC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DF1-B891-46C3-9721-1A507C83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093-C3F2-40DC-8F6B-83CE8896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3E0-2603-4F1E-BC9B-D1B4831B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882-63F3-4955-90B9-24114BB0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12A17-5113-4211-919D-3567E446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04DB8-4DE9-419C-8820-8953051C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E3FEB-F78A-4771-A875-5431DA5D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9571A-4379-4F94-A76C-16446F18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316B3-5C83-4BFF-BE35-6C1B8155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7B537-178F-4B81-8491-87CE0D18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52630-1BCA-4C1B-8AFA-B83E7EA8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AAE-740F-4C29-A4AE-DCCED272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A230F-7D0B-4D89-93B6-F059B5D1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4423F-9194-43AE-B904-5DE3A5E9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29FEC-E1F5-4495-9A78-BA056F91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01876-CF56-4B26-8341-35745986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76F94-A8AE-4BD9-9076-F947DDCB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86D3C-B9B8-42B8-AD58-273A565C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57D75-89FE-4792-992E-C19FF10E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515E1-38D6-4083-852A-9DDADF10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287B9-8D3E-48D3-8AA1-D837A689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3C306-3355-4596-9379-515215A4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A74-44AF-4444-B8C7-F9A270F8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D9AB9-4083-42C4-A43D-4FEB253E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81ABB-FCC8-42B0-B915-A815D293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B8B44-3050-4563-ACFD-0FD5A040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0512D-FC21-49F0-8C08-48F87506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6D908-0CDC-46F8-8FB0-5BF07378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FCCE3-776E-4126-B39D-D76AB018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7B44E-6FD3-4219-B8C9-A4702204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52E0C-F7DC-4F07-A4BB-CFB427FE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2DE07-C35C-4EBE-9F28-5F3DD314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2763A-28B3-49B8-B04D-AA7CF376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AC5-AAF9-4032-8D18-517BD39C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2BF6F-9E41-439D-84F8-774C5966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D521C-B7CE-4256-9D0A-C823BDAD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A35A4-F259-4556-97BD-C357F308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8034D-084E-4AA0-999F-EA6B5857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C58DD-C6EC-4969-8378-0D06D5D6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452A2-EDA8-4B3E-AE8F-A0CAE099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4E08E-3F07-4DCE-BB0A-2F6EE7E9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0DD5B-5129-4D95-B548-927A3DF7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D5CC8-8398-447B-A7B5-C4627AFB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569-9936-4B21-A515-714E58FC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B49-BD47-4EE7-BB3D-EA5A36FD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AFC-7EFA-48CE-B9A4-A9B045F9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FB1B-0B80-4FDD-BE5F-10D0BAE9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D5D-F91D-47EA-BB72-66B6244F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6FED-88FE-4D8B-A476-D67191D88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12CF-B1FA-4876-8E5A-6FF78D189CF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37A8-4CEF-4FEF-8976-F6DA8B774B8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FAB0-3CA4-4484-9B71-2FFD6E3E6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0880" y="1600200"/>
            <a:ext cx="834408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4f81bd"/>
              </a:buClr>
              <a:buSzPct val="6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aluate the effect of increasing horizontal resolutio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thin a given mode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on hurricane intensity foreca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ticipa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4f81b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 modeling groups (URI: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FD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UWM: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W Non-hydro Modeling System, AOML:  WRF-NMM, NRL:  COAMPS,  MMM:  WRF-AR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PSU: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WRF-AR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4f81b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F Developmental Testbed Center (D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4f81b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AA National Hurricane Center (NH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4f81b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AA GFD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4f81b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eeec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eeec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FIP High-Resolution T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4038480" y="621648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Presented by Ligia Bernardet, NOAA ESRL D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May 21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TextBox 4" descr=""/>
          <p:cNvPicPr/>
          <p:nvPr/>
        </p:nvPicPr>
        <p:blipFill>
          <a:blip r:embed="rId1"/>
          <a:stretch/>
        </p:blipFill>
        <p:spPr>
          <a:xfrm>
            <a:off x="3352680" y="4724280"/>
            <a:ext cx="592452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3192480" y="3200400"/>
            <a:ext cx="5951520" cy="3200400"/>
          </a:xfrm>
          <a:prstGeom prst="rect">
            <a:avLst/>
          </a:prstGeom>
          <a:ln w="0">
            <a:noFill/>
          </a:ln>
        </p:spPr>
      </p:pic>
      <p:sp>
        <p:nvSpPr>
          <p:cNvPr id="265" name="Oval 3"/>
          <p:cNvSpPr/>
          <p:nvPr/>
        </p:nvSpPr>
        <p:spPr>
          <a:xfrm>
            <a:off x="1622520" y="2489040"/>
            <a:ext cx="882720" cy="5954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5951520" cy="32004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6"/>
          <p:cNvSpPr/>
          <p:nvPr/>
        </p:nvSpPr>
        <p:spPr>
          <a:xfrm>
            <a:off x="0" y="762120"/>
            <a:ext cx="4719600" cy="19767600"/>
          </a:xfrm>
          <a:prstGeom prst="rect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rors and spread increase i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 outliers with large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3581280" y="5522760"/>
            <a:ext cx="5193000" cy="6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198360" y="4311720"/>
            <a:ext cx="5821560" cy="11680920"/>
          </a:xfrm>
          <a:prstGeom prst="rect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degradation or improvement in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914400" y="0"/>
            <a:ext cx="8229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FDL: Track er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TextBox 23" descr=""/>
          <p:cNvPicPr/>
          <p:nvPr/>
        </p:nvPicPr>
        <p:blipFill>
          <a:blip r:embed="rId3"/>
          <a:stretch/>
        </p:blipFill>
        <p:spPr>
          <a:xfrm>
            <a:off x="-146160" y="-328680"/>
            <a:ext cx="1548000" cy="1273320"/>
          </a:xfrm>
          <a:prstGeom prst="rect">
            <a:avLst/>
          </a:prstGeom>
          <a:ln w="0">
            <a:noFill/>
          </a:ln>
        </p:spPr>
      </p:pic>
      <p:sp>
        <p:nvSpPr>
          <p:cNvPr id="272" name="TextBox 24"/>
          <p:cNvSpPr/>
          <p:nvPr/>
        </p:nvSpPr>
        <p:spPr>
          <a:xfrm>
            <a:off x="1066680" y="160020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6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6"/>
          <p:cNvSpPr/>
          <p:nvPr/>
        </p:nvSpPr>
        <p:spPr>
          <a:xfrm>
            <a:off x="3832200" y="5562720"/>
            <a:ext cx="47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58   57    54    52    49    42    36     32   28    25   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TextBox 26" descr=""/>
          <p:cNvPicPr/>
          <p:nvPr/>
        </p:nvPicPr>
        <p:blipFill>
          <a:blip r:embed="rId4"/>
          <a:stretch/>
        </p:blipFill>
        <p:spPr>
          <a:xfrm>
            <a:off x="2724120" y="6076800"/>
            <a:ext cx="1098720" cy="304920"/>
          </a:xfrm>
          <a:prstGeom prst="rect">
            <a:avLst/>
          </a:prstGeom>
          <a:ln w="0">
            <a:noFill/>
          </a:ln>
        </p:spPr>
      </p:pic>
      <p:cxnSp>
        <p:nvCxnSpPr>
          <p:cNvPr id="275" name="Straight Arrow Connector 27"/>
          <p:cNvCxnSpPr/>
          <p:nvPr/>
        </p:nvCxnSpPr>
        <p:spPr>
          <a:xfrm flipV="1">
            <a:off x="3429000" y="5790960"/>
            <a:ext cx="457920" cy="305280"/>
          </a:xfrm>
          <a:prstGeom prst="straightConnector1">
            <a:avLst/>
          </a:prstGeom>
          <a:ln w="25560">
            <a:solidFill>
              <a:srgbClr val="3366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250920" y="1216080"/>
            <a:ext cx="7651800" cy="41148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2"/>
          <p:cNvSpPr/>
          <p:nvPr/>
        </p:nvSpPr>
        <p:spPr>
          <a:xfrm>
            <a:off x="503280" y="250920"/>
            <a:ext cx="8229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FDL: Intensity er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4"/>
          <p:cNvSpPr/>
          <p:nvPr/>
        </p:nvSpPr>
        <p:spPr>
          <a:xfrm>
            <a:off x="1125360" y="1868400"/>
            <a:ext cx="882720" cy="5954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5"/>
          <p:cNvSpPr/>
          <p:nvPr/>
        </p:nvSpPr>
        <p:spPr>
          <a:xfrm>
            <a:off x="1047600" y="2967120"/>
            <a:ext cx="371520" cy="796680"/>
          </a:xfrm>
          <a:prstGeom prst="ellipse">
            <a:avLst/>
          </a:prstGeom>
          <a:noFill/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6"/>
          <p:cNvSpPr/>
          <p:nvPr/>
        </p:nvSpPr>
        <p:spPr>
          <a:xfrm>
            <a:off x="2540160" y="2989440"/>
            <a:ext cx="365040" cy="796680"/>
          </a:xfrm>
          <a:prstGeom prst="ellipse">
            <a:avLst/>
          </a:prstGeom>
          <a:noFill/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7"/>
          <p:cNvSpPr/>
          <p:nvPr/>
        </p:nvSpPr>
        <p:spPr>
          <a:xfrm>
            <a:off x="5867280" y="2789280"/>
            <a:ext cx="168480" cy="797040"/>
          </a:xfrm>
          <a:prstGeom prst="ellipse">
            <a:avLst/>
          </a:prstGeom>
          <a:noFill/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457200" y="5562720"/>
            <a:ext cx="8305920" cy="30744720"/>
          </a:xfrm>
          <a:prstGeom prst="rect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resolutions are systematically too weak at lead times0,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km is too strong at lead time 96 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68280" y="787320"/>
            <a:ext cx="5951520" cy="32004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2"/>
          <p:cNvSpPr/>
          <p:nvPr/>
        </p:nvSpPr>
        <p:spPr>
          <a:xfrm>
            <a:off x="503280" y="250920"/>
            <a:ext cx="8229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FDL: Intensity absolute er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957240" y="1130400"/>
            <a:ext cx="882720" cy="7966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2"/>
          <a:stretch/>
        </p:blipFill>
        <p:spPr>
          <a:xfrm>
            <a:off x="2743200" y="3492360"/>
            <a:ext cx="5951520" cy="32004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6"/>
          <p:cNvSpPr/>
          <p:nvPr/>
        </p:nvSpPr>
        <p:spPr>
          <a:xfrm>
            <a:off x="6137280" y="1090440"/>
            <a:ext cx="3006720" cy="6497280"/>
          </a:xfrm>
          <a:prstGeom prst="rect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growth i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6162840" y="1789200"/>
            <a:ext cx="2663640" cy="10924920"/>
          </a:xfrm>
          <a:prstGeom prst="rect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outliers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lead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3195720" y="5241960"/>
            <a:ext cx="5057640" cy="1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6915240" y="5157720"/>
            <a:ext cx="371520" cy="7970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-393840" y="5987880"/>
            <a:ext cx="3540240" cy="13364280"/>
          </a:xfrm>
          <a:prstGeom prst="rect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1 SS differ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 h lower res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762120" y="1600200"/>
          <a:ext cx="7619760" cy="22953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  <a:gridCol w="1905120"/>
                <a:gridCol w="1904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O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F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ck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ight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nsity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d systematic under predi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d systematic under predi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tually no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solute Intensity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tually no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all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Content Placeholder 3" descr="AOM_track_box.jpg"/>
          <p:cNvPicPr/>
          <p:nvPr/>
        </p:nvPicPr>
        <p:blipFill>
          <a:blip r:embed="rId1"/>
          <a:srcRect l="0" t="11136" r="0" b="0"/>
          <a:stretch/>
        </p:blipFill>
        <p:spPr>
          <a:xfrm>
            <a:off x="457200" y="914400"/>
            <a:ext cx="8001000" cy="3143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k Absolute Error - AOM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Content Placeholder 3" descr="AOM_track_diff_box.jpg"/>
          <p:cNvPicPr/>
          <p:nvPr/>
        </p:nvPicPr>
        <p:blipFill>
          <a:blip r:embed="rId2"/>
          <a:srcRect l="0" t="11136" r="0" b="0"/>
          <a:stretch/>
        </p:blipFill>
        <p:spPr>
          <a:xfrm>
            <a:off x="457200" y="3562200"/>
            <a:ext cx="8001000" cy="314352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1251360" y="5715000"/>
            <a:ext cx="66394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28 26 26  26  25  24  23  23 21 20 18 18  17  16  14  14 12  12 12  12 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3200400" y="4800600"/>
            <a:ext cx="609480" cy="6094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6"/>
          <p:cNvSpPr/>
          <p:nvPr/>
        </p:nvSpPr>
        <p:spPr>
          <a:xfrm>
            <a:off x="6858000" y="4267080"/>
            <a:ext cx="1143000" cy="12956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1330560" y="3886200"/>
            <a:ext cx="6487200" cy="3682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M2 has less error at lead times 36, 42, 108, 114, and 120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3294360" y="1371600"/>
            <a:ext cx="3009240" cy="6426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increases w/ lea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growth for 9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1600200" y="160020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3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TextBox 10" descr=""/>
          <p:cNvPicPr/>
          <p:nvPr/>
        </p:nvPicPr>
        <p:blipFill>
          <a:blip r:embed="rId3"/>
          <a:stretch/>
        </p:blipFill>
        <p:spPr>
          <a:xfrm>
            <a:off x="-146160" y="-328680"/>
            <a:ext cx="1548000" cy="1273320"/>
          </a:xfrm>
          <a:prstGeom prst="rect">
            <a:avLst/>
          </a:prstGeom>
          <a:ln w="0">
            <a:noFill/>
          </a:ln>
        </p:spPr>
      </p:pic>
      <p:pic>
        <p:nvPicPr>
          <p:cNvPr id="205" name="TextBox 11" descr=""/>
          <p:cNvPicPr/>
          <p:nvPr/>
        </p:nvPicPr>
        <p:blipFill>
          <a:blip r:embed="rId4"/>
          <a:stretch/>
        </p:blipFill>
        <p:spPr>
          <a:xfrm>
            <a:off x="133200" y="6308640"/>
            <a:ext cx="1098720" cy="304920"/>
          </a:xfrm>
          <a:prstGeom prst="rect">
            <a:avLst/>
          </a:prstGeom>
          <a:ln w="0">
            <a:noFill/>
          </a:ln>
        </p:spPr>
      </p:pic>
      <p:cxnSp>
        <p:nvCxnSpPr>
          <p:cNvPr id="206" name="Straight Arrow Connector 13"/>
          <p:cNvCxnSpPr/>
          <p:nvPr/>
        </p:nvCxnSpPr>
        <p:spPr>
          <a:xfrm flipV="1">
            <a:off x="838080" y="6019560"/>
            <a:ext cx="457920" cy="305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7" name="Straight Connector 14"/>
          <p:cNvSpPr/>
          <p:nvPr/>
        </p:nvSpPr>
        <p:spPr>
          <a:xfrm>
            <a:off x="990720" y="5202360"/>
            <a:ext cx="72388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Content Placeholder 5" descr="AOM_int_box.jpg"/>
          <p:cNvPicPr/>
          <p:nvPr/>
        </p:nvPicPr>
        <p:blipFill>
          <a:blip r:embed="rId1"/>
          <a:srcRect l="0" t="11136" r="0" b="0"/>
          <a:stretch/>
        </p:blipFill>
        <p:spPr>
          <a:xfrm>
            <a:off x="533520" y="1828800"/>
            <a:ext cx="8229600" cy="32338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nsity Error - AOM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3"/>
          <p:cNvSpPr/>
          <p:nvPr/>
        </p:nvSpPr>
        <p:spPr>
          <a:xfrm>
            <a:off x="1371600" y="3048120"/>
            <a:ext cx="228600" cy="6094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"/>
          <p:cNvSpPr/>
          <p:nvPr/>
        </p:nvSpPr>
        <p:spPr>
          <a:xfrm>
            <a:off x="1676520" y="3200400"/>
            <a:ext cx="228600" cy="6094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2057400" y="3200400"/>
            <a:ext cx="228600" cy="6094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2362320" y="3200400"/>
            <a:ext cx="228600" cy="6094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2666880" y="3200400"/>
            <a:ext cx="228600" cy="6094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"/>
          <p:cNvSpPr/>
          <p:nvPr/>
        </p:nvSpPr>
        <p:spPr>
          <a:xfrm>
            <a:off x="2971800" y="3124080"/>
            <a:ext cx="228600" cy="6098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3276720" y="3048120"/>
            <a:ext cx="228600" cy="6094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1"/>
          <p:cNvSpPr/>
          <p:nvPr/>
        </p:nvSpPr>
        <p:spPr>
          <a:xfrm>
            <a:off x="3657600" y="3124080"/>
            <a:ext cx="228600" cy="6098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"/>
          <p:cNvSpPr/>
          <p:nvPr/>
        </p:nvSpPr>
        <p:spPr>
          <a:xfrm>
            <a:off x="3962520" y="3048120"/>
            <a:ext cx="228600" cy="6094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3"/>
          <p:cNvSpPr/>
          <p:nvPr/>
        </p:nvSpPr>
        <p:spPr>
          <a:xfrm>
            <a:off x="5257800" y="3124080"/>
            <a:ext cx="228600" cy="6098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6"/>
          <p:cNvSpPr/>
          <p:nvPr/>
        </p:nvSpPr>
        <p:spPr>
          <a:xfrm>
            <a:off x="2295360" y="5334120"/>
            <a:ext cx="5078880" cy="8254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km tends to under predict int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km exhibits less systematic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Content Placeholder 3" descr="AOM_absint_box.png"/>
          <p:cNvPicPr/>
          <p:nvPr/>
        </p:nvPicPr>
        <p:blipFill>
          <a:blip r:embed="rId1"/>
          <a:srcRect l="0" t="15126" r="0" b="0"/>
          <a:stretch/>
        </p:blipFill>
        <p:spPr>
          <a:xfrm>
            <a:off x="380880" y="1066680"/>
            <a:ext cx="8001000" cy="3006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nsity Absolute Error - AOM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Content Placeholder 3" descr="AOM_int_diff_box.jpg"/>
          <p:cNvPicPr/>
          <p:nvPr/>
        </p:nvPicPr>
        <p:blipFill>
          <a:blip r:embed="rId2"/>
          <a:srcRect l="0" t="11136" r="0" b="0"/>
          <a:stretch/>
        </p:blipFill>
        <p:spPr>
          <a:xfrm>
            <a:off x="457200" y="3486240"/>
            <a:ext cx="8001000" cy="3143160"/>
          </a:xfrm>
          <a:prstGeom prst="rect">
            <a:avLst/>
          </a:prstGeom>
          <a:ln w="0">
            <a:noFill/>
          </a:ln>
        </p:spPr>
      </p:pic>
      <p:sp>
        <p:nvSpPr>
          <p:cNvPr id="224" name="Oval 4"/>
          <p:cNvSpPr/>
          <p:nvPr/>
        </p:nvSpPr>
        <p:spPr>
          <a:xfrm>
            <a:off x="1295280" y="4495680"/>
            <a:ext cx="685800" cy="6098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2514600" y="4495680"/>
            <a:ext cx="685800" cy="6098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3429000" y="4572000"/>
            <a:ext cx="457200" cy="6094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7"/>
          <p:cNvSpPr/>
          <p:nvPr/>
        </p:nvSpPr>
        <p:spPr>
          <a:xfrm>
            <a:off x="4038480" y="4495680"/>
            <a:ext cx="457200" cy="6098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8"/>
          <p:cNvSpPr/>
          <p:nvPr/>
        </p:nvSpPr>
        <p:spPr>
          <a:xfrm>
            <a:off x="6248520" y="4343400"/>
            <a:ext cx="457200" cy="6094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1202400" y="5334120"/>
            <a:ext cx="6691320" cy="4597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km tends to produce a better intensity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0"/>
          <p:cNvSpPr/>
          <p:nvPr/>
        </p:nvSpPr>
        <p:spPr>
          <a:xfrm>
            <a:off x="990720" y="4952880"/>
            <a:ext cx="72388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533520" y="1828800"/>
          <a:ext cx="6933960" cy="1482840"/>
        </p:xfrm>
        <a:graphic>
          <a:graphicData uri="http://schemas.openxmlformats.org/drawingml/2006/table">
            <a:tbl>
              <a:tblPr/>
              <a:tblGrid>
                <a:gridCol w="2590560"/>
                <a:gridCol w="4343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O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ck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nsity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d systematic under predi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solute Intensity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AOM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Content Placeholder 3" descr="MMM_track_box.jpg"/>
          <p:cNvPicPr/>
          <p:nvPr/>
        </p:nvPicPr>
        <p:blipFill>
          <a:blip r:embed="rId1"/>
          <a:srcRect l="0" t="11136" r="0" b="0"/>
          <a:stretch/>
        </p:blipFill>
        <p:spPr>
          <a:xfrm>
            <a:off x="457200" y="914400"/>
            <a:ext cx="8001000" cy="31431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k Absolute Error - MM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Content Placeholder 3" descr="MMM_track_diff_box.jpg"/>
          <p:cNvPicPr/>
          <p:nvPr/>
        </p:nvPicPr>
        <p:blipFill>
          <a:blip r:embed="rId2"/>
          <a:srcRect l="0" t="11136" r="0" b="0"/>
          <a:stretch/>
        </p:blipFill>
        <p:spPr>
          <a:xfrm>
            <a:off x="457200" y="3505320"/>
            <a:ext cx="8001000" cy="31431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1241640" y="5638680"/>
            <a:ext cx="66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20  19  19  20 19  19  19 18  16 15 14  12 10   9    8    8    7   7    7    7 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3294360" y="1371600"/>
            <a:ext cx="3009240" cy="3682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increases w/ lea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6"/>
          <p:cNvSpPr/>
          <p:nvPr/>
        </p:nvSpPr>
        <p:spPr>
          <a:xfrm>
            <a:off x="1981080" y="4724280"/>
            <a:ext cx="1524240" cy="304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7"/>
          <p:cNvSpPr/>
          <p:nvPr/>
        </p:nvSpPr>
        <p:spPr>
          <a:xfrm>
            <a:off x="3809880" y="4724280"/>
            <a:ext cx="685800" cy="304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8"/>
          <p:cNvSpPr/>
          <p:nvPr/>
        </p:nvSpPr>
        <p:spPr>
          <a:xfrm>
            <a:off x="5029200" y="4800600"/>
            <a:ext cx="380880" cy="304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1404360" y="3886200"/>
            <a:ext cx="5636520" cy="3682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3 km degraded track forecast at intermediate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TextBox 10" descr=""/>
          <p:cNvPicPr/>
          <p:nvPr/>
        </p:nvPicPr>
        <p:blipFill>
          <a:blip r:embed="rId3"/>
          <a:stretch/>
        </p:blipFill>
        <p:spPr>
          <a:xfrm>
            <a:off x="-146160" y="-328680"/>
            <a:ext cx="1548000" cy="12733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1"/>
          <p:cNvSpPr/>
          <p:nvPr/>
        </p:nvSpPr>
        <p:spPr>
          <a:xfrm>
            <a:off x="1447920" y="121932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.3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TextBox 12" descr=""/>
          <p:cNvPicPr/>
          <p:nvPr/>
        </p:nvPicPr>
        <p:blipFill>
          <a:blip r:embed="rId4"/>
          <a:stretch/>
        </p:blipFill>
        <p:spPr>
          <a:xfrm>
            <a:off x="133200" y="6308640"/>
            <a:ext cx="1098720" cy="304920"/>
          </a:xfrm>
          <a:prstGeom prst="rect">
            <a:avLst/>
          </a:prstGeom>
          <a:ln w="0">
            <a:noFill/>
          </a:ln>
        </p:spPr>
      </p:pic>
      <p:cxnSp>
        <p:nvCxnSpPr>
          <p:cNvPr id="245" name="Straight Arrow Connector 13"/>
          <p:cNvCxnSpPr/>
          <p:nvPr/>
        </p:nvCxnSpPr>
        <p:spPr>
          <a:xfrm flipV="1">
            <a:off x="838080" y="6019560"/>
            <a:ext cx="457920" cy="305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46" name="Straight Connector 14"/>
          <p:cNvSpPr/>
          <p:nvPr/>
        </p:nvSpPr>
        <p:spPr>
          <a:xfrm>
            <a:off x="990720" y="4876920"/>
            <a:ext cx="72388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Content Placeholder 3" descr="MMM_int_box.jpg"/>
          <p:cNvPicPr/>
          <p:nvPr/>
        </p:nvPicPr>
        <p:blipFill>
          <a:blip r:embed="rId1"/>
          <a:srcRect l="0" t="11136" r="0" b="0"/>
          <a:stretch/>
        </p:blipFill>
        <p:spPr>
          <a:xfrm>
            <a:off x="457200" y="2057400"/>
            <a:ext cx="8001000" cy="31431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nsity Error - MM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Oval 3"/>
          <p:cNvSpPr/>
          <p:nvPr/>
        </p:nvSpPr>
        <p:spPr>
          <a:xfrm>
            <a:off x="4114800" y="3352680"/>
            <a:ext cx="228600" cy="304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"/>
          <p:cNvSpPr/>
          <p:nvPr/>
        </p:nvSpPr>
        <p:spPr>
          <a:xfrm>
            <a:off x="5029200" y="3276720"/>
            <a:ext cx="228600" cy="6094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5"/>
          <p:cNvSpPr/>
          <p:nvPr/>
        </p:nvSpPr>
        <p:spPr>
          <a:xfrm>
            <a:off x="5334120" y="3352680"/>
            <a:ext cx="228600" cy="6098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5638680" y="3352680"/>
            <a:ext cx="228600" cy="6098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6019920" y="3276720"/>
            <a:ext cx="152280" cy="6094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1295280" y="3200400"/>
            <a:ext cx="228600" cy="6094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1600200" y="3200400"/>
            <a:ext cx="228600" cy="6094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0"/>
          <p:cNvSpPr/>
          <p:nvPr/>
        </p:nvSpPr>
        <p:spPr>
          <a:xfrm>
            <a:off x="1517400" y="5638680"/>
            <a:ext cx="644724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km exhibits more systematic under prediction than 1.33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Content Placeholder 3" descr="MMM_absint_box.png"/>
          <p:cNvPicPr/>
          <p:nvPr/>
        </p:nvPicPr>
        <p:blipFill>
          <a:blip r:embed="rId1"/>
          <a:srcRect l="0" t="15126" r="0" b="0"/>
          <a:stretch/>
        </p:blipFill>
        <p:spPr>
          <a:xfrm>
            <a:off x="380880" y="1066680"/>
            <a:ext cx="8001000" cy="30067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nsity Absolute Error - MM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Content Placeholder 3" descr="MMM_int_diff_box.jpg"/>
          <p:cNvPicPr/>
          <p:nvPr/>
        </p:nvPicPr>
        <p:blipFill>
          <a:blip r:embed="rId2"/>
          <a:srcRect l="0" t="11136" r="0" b="0"/>
          <a:stretch/>
        </p:blipFill>
        <p:spPr>
          <a:xfrm>
            <a:off x="457200" y="3486240"/>
            <a:ext cx="8001000" cy="31431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5"/>
          <p:cNvSpPr/>
          <p:nvPr/>
        </p:nvSpPr>
        <p:spPr>
          <a:xfrm>
            <a:off x="1255680" y="3809880"/>
            <a:ext cx="638352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ignificant differences – 1.3 km does not improve int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8"/>
          <p:cNvSpPr/>
          <p:nvPr/>
        </p:nvSpPr>
        <p:spPr>
          <a:xfrm>
            <a:off x="990720" y="5202360"/>
            <a:ext cx="72388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838080" y="1676520"/>
          <a:ext cx="6705720" cy="1747800"/>
        </p:xfrm>
        <a:graphic>
          <a:graphicData uri="http://schemas.openxmlformats.org/drawingml/2006/table">
            <a:tbl>
              <a:tblPr/>
              <a:tblGrid>
                <a:gridCol w="259092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ck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ight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nsity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d systematic under predi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solute Intensity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MM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9:42:58Z</dcterms:created>
  <dc:creator>nance</dc:creator>
  <dc:description/>
  <dc:language>en-US</dc:language>
  <cp:lastModifiedBy>xzhang</cp:lastModifiedBy>
  <dcterms:modified xsi:type="dcterms:W3CDTF">2009-05-20T20:23:49Z</dcterms:modified>
  <cp:revision>207</cp:revision>
  <dc:subject/>
  <dc:title>DTC HRH Evaluation</dc:title>
</cp:coreProperties>
</file>